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A12-E741-480C-B0DC-C4703DA6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328-C0C8-4218-8C90-E377BC67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3C5-E951-4D57-BCFC-4B0BA5DB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2BE-455D-432E-B16F-6D86F5CE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6FE-C4EB-4729-B8F1-2C0B73E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573-E507-4074-9546-85445854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2C9A-D78B-4406-8EFA-30835DB2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8E75-24D0-4811-A072-1C4EE7A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67E-AE6B-4F3B-9E57-88D90E35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975-D341-4612-945B-D28BA77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F1A-8C22-441D-884C-504EB56C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FFC3-E36A-4FC9-A438-2B408AF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982-ED70-43A6-8AD9-A3C9B441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1FF7-AAD1-42EC-BDC8-F479F59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19B-84F8-49F4-9CBD-5460236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B98-61CD-43BC-9553-7335FEA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57D8-F495-4DEB-8895-D4528397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173-BD69-4A32-88AB-71A4C5D9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2B6-A282-4837-BC40-A77FF430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DFA2-FC21-4D5E-9F83-2E75FC08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C0F-4D2B-48FB-A371-3895804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C13E-A3C8-41C7-A853-0B1DD055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7666-B513-4E96-9DEE-F0EA403D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1E8A-9511-44EC-B927-E6D5C5C3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9A3C-AAD6-43A4-9DC7-D2933B9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77BF-A78A-4C11-BA8E-17CA6AA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6821-37F9-46F1-B492-3B5E380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E092-2DB6-4B4D-80F0-30A8BC23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D7B0-CE2F-443C-A5BF-F214C92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9642-58DC-48F3-A5D3-9D44A02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BD71-A708-4663-8906-0D6A717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DBC-07FE-445A-933C-4A37FCF6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418A-D321-4572-89E2-E8FA340D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CA3D-830C-44E4-9DD6-52CE65A3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0E54-E44C-4583-8DB7-9F373079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7B0D-0688-4F84-9014-AD42BCA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014F-C33F-4EE8-8F4C-65ABF65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8C62-9084-4D95-AD86-C3B35735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A243-5005-45CA-BAA6-21471F46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2B1B-0C06-4E1B-8E7B-4952C78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16DF-7982-4E03-8200-EC11296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43ED-32A9-4DB3-B536-D08BF4B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6F7-9A71-4CF9-9490-5EE84B1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1C26-88B0-4B3D-946E-FFB04A52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357A-E33F-4972-9EF7-36E914CB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699C0-15C8-4AAC-9035-C277DFF3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284-EF09-4100-A7AF-FA0C45B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071-DA8D-43BD-844B-C0DF52C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D88C440-0B72-40CF-AFF5-6FFE93A45FC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C79D231-3F00-411A-9B5F-67950ACB647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EE45A18-6FB5-47E6-83FF-D956F03546A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8FCD02A-6C3F-487D-BF60-EA16EB35687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skrót RK-O i podaj różnice pomiędzy resuscytacją a reanimacją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800" spc="-1" strike="noStrike">
                <a:solidFill>
                  <a:srgbClr val="374c81"/>
                </a:solidFill>
                <a:latin typeface="Century Gothic"/>
              </a:rPr>
              <a:t>RK-O – Resuscytacja Krążeniowo-Oddechowa </a:t>
            </a: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Resuscytacja to czynności zmierzające do przywrócenia u poszkodowanego oddechu </a:t>
            </a:r>
            <a:br>
              <a:rPr sz="2800"/>
            </a:b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i krążenia, podczas gdy celem reanimacji jest dodatkowo przywrócenie świadomości poszkodowanego.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8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